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45200" cy="934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5280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90960" y="0"/>
            <a:ext cx="305280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0160" y="701640"/>
            <a:ext cx="4668840" cy="350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76880"/>
            <a:ext cx="3052800" cy="46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90960" y="8876880"/>
            <a:ext cx="3052800" cy="46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8A16-C560-42A8-AA90-775576CC0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419D-5FB7-4313-AEAA-BED8B7078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4C1A-B8D0-415A-95DB-631E8E689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7959-FB08-4C1F-95D1-BE580E726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002F-17F5-4B46-8CC2-7954397F2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5840-33B3-4772-9966-30703EE29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CFAA-B79D-437D-B537-2F092440B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FDE0-3731-4DEB-85C7-CFA78B71E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165C-E043-4DA3-838D-08B4CD65A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048A-4851-46E4-81FD-0DF24B35B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A4FE-8EE0-46ED-9E39-B2D4229A1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B8F7-F431-49A4-B906-484EAEE26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5FA7-7408-46A1-98F8-DF203B269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7FA7-4B18-4932-BAAB-EEDE54CE7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4B57-B52A-4865-8121-A8A6DAE7E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1FC1-7242-4272-9791-EE8A3441D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43B6-7648-4C10-8E34-3B3E83617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7718-8B22-4566-B44C-6559DACE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7F1C-3B9B-4A02-B14A-64F92FA1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868E-D475-4C78-86DE-B6175D8CB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FD0A-DE4D-4C38-BD61-6356C3220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7ACD-4550-4FCF-A540-472E7018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02E3-A12F-47EC-A2D5-BBFE5795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3419-BBE2-4D86-89DA-CC8533E0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20EE-B3E2-4C0F-88E3-2C6DA41E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7EA5-9481-4724-A649-982F4675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3EB0-E251-4547-897D-FD0A9367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12C0-54C3-4A65-A0E7-ECA73229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4C34-3CC9-4A71-8E84-4D4866B9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E70F-CEA5-4A9B-9A12-FBEF3C872C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Theme 5: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Nutrition, food storage, value addition and mycotoxin management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1760" y="190512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ESENTED 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 Mahama Saaka (Ph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hool of Allied Health Sciences- Tam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chievement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d monthly GMP sessions held in 25 programme communit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e community durbars on quarterly basis to demonstrate how to prepare enriched energy- and nutrient- rich dishes with local ingredients (cereals, legumes, eggs, and vegetab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chievement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manuscripts have been published in peer review journ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ooklet on child malnutrition in northern Ghana has also been produc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chievement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aseline information now available on aflatoxins levels and prevalence in maize and peanut in the intervention z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ority strategies have been identified  to be incorporated into work plan of Phas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ummary Description of the Community Intervention Tri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Activities carried out were part of a package designed to test the hypothesis that nutrition  behaviour change communication (BCC) combined with nutrition sensitive agricultural interventions will better promote the production and consumption of diverse and nutrient-rich fo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ummary Description of the Community Intervention Trial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otal of 400 moderate to severe malnourished children aged 6-36 months were randomly assigned to one of the following treatm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umes, Vegetables and Livestock  p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umes, Vegetables and Livestock + Nutrition BC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Summary Description of the Community Intervention Trial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groups of intervention communities received nutrition sensitive agricultural interventions including production of nutrient-dense crops (cowpea, soybean, groundnut, vegetables) and/or rearing of small ruminan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Summary Description of the Community Intervention Trial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as, the comparison communities received only the agricultural interventions, the intervention communities received additional nutrition BCC through community Growth Monitoring and Promotion (GMP) and reinforced through home visits peer counsell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Summary Description of the Community Intervention Trial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utcome of the trial is currently being evalu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blems/Challenges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of the health personnel trained to support and supervise the work of community volunteers have been transferred out of the programme distri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vention households were not provided with the needed support (facilities for rearing livestock such as goats and sheep or guinea-fow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re was inadequate funding for Postharvest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re should be clear work plan and stability of funding should be streamlined prior to start of programs in Phas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he focus of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theme 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was to identify and promote the consumption of diverse, micronutrient-rich and safe foods  to improve nutritional outcomes of children, pregnant and nursing m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TA should through inter-sectoral approaches, promote and support diversified production of drought-resistant crops, including fruits &amp; vegetables, and improved breed of small ruminants and poultry at the household and community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Enhance nutrient intake of children through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an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innovative programme that will stimulate behaviour change towards feeding children with animal source foods (ASF foo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s to effectively implement homestead food production (HFP) coupled with nutrition education to increase availability and consumption of micronutrient-rich foods (fruits and vegetables and animal source foods) in poor households may contribute to the nutritional well-being of the popu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ngthen and harmonize the institutional framework for coordination and capacity to carry out Nutrition-Agriculture interven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trong advocate for and support integration of nutrition in agricultural programmes at the district and sub-district  lev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, document and disseminate findings on positive indigenous dietary pract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ile food composition data for major foods consumed in Northern Gh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 proper food handling, hygiene, and sanitation through increased knowledge, use of safe water and hand-washing practices at the household lev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y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Need to upscale integrated pre-and-postharvest management strategies to reduce consumer risk in Gh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OF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Activit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ed nutrition education including demonstration on how to prepare nutrient- rich dishes with local ingredients (cereals, legumes, eggs, and vegetab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and counseling in optimal maternal nutrition and infant/young child feeding practices through growth monitoring and promotion (GMP) sess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Activit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lding monthly GMP sessions to detect children at risk of malnutrition early enough for counseling and nutrition rehabilit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rained CHWs  also provid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utriti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ounselin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home visits to m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Activit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essages delivered included  the importance of diversifying diets, nutrition during pregnancy, early and exclusive breastfeeding, the appropriate quantity and quality of complementary foods, personal and environmental hygie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Activit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uct of a baseline survey on the nutritional status and dietary practices of children in project commun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ssessment of the dietary intake and nutritional status and household food insecurity situation of pregnant women in project commun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Activit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valuated how the current handling operations influence  postharvest quality, losses and aflatoxin levels</a:t>
            </a:r>
            <a:r>
              <a:rPr b="1" lang="en-I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ffffff"/>
                </a:solidFill>
                <a:latin typeface="Arial"/>
              </a:rPr>
              <a:t>Determined total aflatoxin levels in peanut samples from  farmer storage units and on-farm research demonstr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Activit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ducted participatory on-farm evaluation of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 peanut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enotypes for resistance to aflatoxins at 3 multi-lo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chievement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0 community health workers (CHWs), including members of women’s groups were trained in Infant and Young Child Feeding (IYCF) pract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d weighing scales, infantometers and registers to support community GMP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22:30:10Z</dcterms:created>
  <dc:creator>Amy</dc:creator>
  <dc:description/>
  <dc:language>en-US</dc:language>
  <cp:lastModifiedBy>mahama Saaka</cp:lastModifiedBy>
  <dcterms:modified xsi:type="dcterms:W3CDTF">2016-12-12T11:57:21Z</dcterms:modified>
  <cp:revision>1567</cp:revision>
  <dc:subject/>
  <dc:title>Gastroenteritis at a University in Texas</dc:title>
</cp:coreProperties>
</file>